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CFB3-D30C-4922-B578-F7AD9CEE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92AE-EC73-4733-95B9-2DFCCFFB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A4F9-20DA-41FD-B106-E17BBB3A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DCBD-554B-44A1-B222-1533B1B0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1BB6-7521-4F34-937B-04AFA5E5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AE05-77A0-4011-9E5F-C47EDE49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EBE8-B935-459E-8AA8-14AA01CC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9D5F-9ABC-47B0-984D-E5B9AD79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E285-0EE6-4F1C-BBD2-744A0B47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DFFE-5F87-4925-8C50-2A65E6B6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BCA5-83D7-444B-B7B0-E3E0AD88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8938-9EE4-4F30-92F9-741C9E24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9F09-B6DD-445B-8E9E-044A7052E9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10D Interpreting non-linear graph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A  non-linear graph is a graph which is not a straight lin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Remember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The y-intercept is the value when x = 0. This is usually the initial or original valu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The slope of the curve gives the rate of change of y compared to x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The slope of a distance-time graph is the speed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ample, Ex 10D, Q.1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You do Ex 10D, Q.2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ample, Ex 10D, Q.3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You do Ex 10D, Q. 4, 5, 6, 7, 8, 9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02:11:58Z</dcterms:created>
  <dc:creator>08843474</dc:creator>
  <dc:description/>
  <dc:language>en-US</dc:language>
  <cp:lastModifiedBy>08843474</cp:lastModifiedBy>
  <dcterms:modified xsi:type="dcterms:W3CDTF">2011-06-02T02:21:26Z</dcterms:modified>
  <cp:revision>1</cp:revision>
  <dc:subject/>
  <dc:title>10D Interpreting non-linear graphs</dc:title>
</cp:coreProperties>
</file>